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7ED-47BD-4BFA-997D-720B6C8A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Architecture Pilot development consists of multiple steps. The first step is the conceptual development. The air quality scenario for the Pilot is a key part of the conceptual develop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Quality Scenario was developed iteratively by a collaborating multi-organizat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used the ESIP wiki and telecons to discuss and develop the submitted scenar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ty of Practice is to co-evolve with the AIP Pilot and other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0C4-36C1-4104-BA5D-857D2A34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5D3-4BCE-4296-BC09-D292DA01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D58-CFD3-4417-B237-C73741B4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952-85DF-43B1-86E0-5A15447C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576-EECB-4422-840E-8FE49DD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8CF-6003-46BA-8C3A-17F708F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146-A9C0-4995-A500-8E5DF9E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AC0-8C97-4181-B26D-0D606CC9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09A-CA96-4F3D-8187-8377E0C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8A6-F6EF-49B7-9452-F0F68AAF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7E4-617D-4D23-83B6-7EF5B25C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7A4-4935-4824-AC26-BE1A9352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0632-2628-4B77-9EC4-A47E5C5A9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P_AQ_Unified_Scenario" TargetMode="External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hyperlink" Target="http://wiki.esipfed.org/index.php/Talk:GEOSS_AIP_AQ_Scenario" TargetMode="External"/><Relationship Id="rId4" Type="http://schemas.openxmlformats.org/officeDocument/2006/relationships/hyperlink" Target="http://wiki.esipfed.org/index.php/GEOSS_AIP_AQ_Scenario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NEEDED!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14520" y="3371400"/>
            <a:ext cx="260028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inv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965160" y="3933720"/>
            <a:ext cx="2332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ir Quality Scenario </a:t>
            </a:r>
            <a:r>
              <a:rPr b="1" lang="en-US" sz="2800" spc="-1" strike="noStrike" u="sng">
                <a:solidFill>
                  <a:srgbClr val="005faa"/>
                </a:solidFill>
                <a:uFillTx/>
                <a:latin typeface="Arial"/>
              </a:rPr>
              <a:t>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841400"/>
            <a:ext cx="80773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IP wi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elecons 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u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develop the submitted scen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unity of Pract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o co-evolve with the AIP Pilot and other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297320" y="3254400"/>
            <a:ext cx="4591080" cy="309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16000" y="3267000"/>
            <a:ext cx="3886200" cy="311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3840" y="3898800"/>
            <a:ext cx="863640" cy="5716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70080" y="4165560"/>
            <a:ext cx="3352680" cy="73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775040"/>
            <a:ext cx="44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unity of Practice Wiki for AQ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a serious global public heal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influenced by processes on local, regional, intercontinental, and glob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tter understand, forecast, and manage air pollution, there is a need to bring together information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bservational platforms (surface monitoring networks, satellites, sondes, ground-based remote sensors, aircraft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and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and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emographics, exposure-related behavior, and health impacts do not respect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; and international cooperative fora (e.g. WMO, CEOS, EEA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lated 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Commerce/Transportation/Energy/Land Use/Health Authorit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Industry; Consultants; Academic and Other Research Institutes; and international scientific cooperative fora or projects (e.g., IGAC, GEMS, ECMWF, EMEP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 and Multi-lateral Cooperative Fora (such as LRTAP Convention, EANET, Male Declaration, CAI-Asia, Arctic Council, ...);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Consumers of Air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ral public; National, State/Provincial, and Local Health and Emergency Response Authorities; Academic and Independent Research Institutes (including health and environmental impacts research); Mass Media (including television, newspapers, radio, internet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Focus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2600" y="1600200"/>
            <a:ext cx="5470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20:38:33Z</dcterms:modified>
  <cp:revision>230</cp:revision>
  <dc:subject/>
  <dc:title>Update on OGC involvement in GEOSS</dc:title>
</cp:coreProperties>
</file>